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27A-D0BA-42E5-B611-05EAE6E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879-D3F3-4F16-A1F3-FB734F2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57FE-BB8B-4FB7-91DA-22CC9CB3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4F215-BEE2-48BF-A1C1-5796676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3E56-BDE3-427F-9555-09E8C914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E2241-5AEF-44CB-91AC-3818160C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02105-402D-450B-9764-20EFDC8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8E6A3-DF52-46F4-9CBA-28280CE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5286-2610-4933-BEE5-40381997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68C36-6989-46EE-9FC1-03277A02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25384-8430-42D2-8849-6EE21696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9AF97-488A-44AD-8B33-5297029C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A50-6B34-452F-9396-832A3865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5B1F6-13DA-4475-A8A6-507AD41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A5769-3CA9-48C7-B8B8-C1744AB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8C089-F725-4035-8FB6-820F6B7C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DA44D-8350-4DEA-9F43-5A254F17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2969-4916-4C0A-A472-82E28EF1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7D719-E580-467F-BE5A-C56565F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2B0E-BC67-4BCB-9499-64EBF27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F2C56-4B74-4859-B9E7-122C814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88622-B303-4594-8FD2-9B1ADFE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0BBC8-EAE6-4D20-BC43-0742E190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69A-F61C-4288-B504-80314F1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C2955-7155-4B87-A56C-5EF68629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59C06-CF30-49F2-9F10-CCE0D160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7664B-6604-4C29-8DD8-30AD9171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1400-90D8-43E3-97FF-0F8BA929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E0E61-6FFC-4590-A6AE-1C98269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3ADD-EC86-4A53-A48B-41A4846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E081-1D39-4B4E-8EB2-4035307D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6F716-6BFF-4CF4-BF49-C2749F1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A9B59-7A70-45EB-B87B-60E24D3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66833-719C-4E21-BCBD-E33644A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3EFD-C69D-4AC9-A4E8-CD45D012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4DCD-CF7A-43EE-8209-2FB133B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26424-A241-41F9-820F-B095A4B3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8199-DE34-48DB-9978-FA998D2E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96762-D9BF-41E6-ABE1-71E6322A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9A15-9205-45FE-BD46-DCBF385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DF94-669B-4331-9B7C-A123024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44D42-A3C4-4A9D-ADE5-9CBD4D7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44113-13E2-4D60-A5A8-8B36D7B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062D5-1942-4C2A-A502-DF625181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16967-DA5F-47FD-8892-08176B6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5C76-FF2D-4C21-B016-677302F6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DD135-09FF-4B62-BB40-1A137A88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F4938-7907-4D7F-A216-0096AAD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56FC9-0AEA-43A0-A030-C8C3186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D695B-EC07-4A48-8168-0A72AAC5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95FC1-6A58-4F9E-882C-17E4EFCD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CC19-058E-4C28-94EE-D11768C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0B42-450E-4A34-B370-75E73D1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E186-EB15-445A-952F-15D4B628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DCD-D8D4-4743-B7C7-C0E8F4E9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8B42-37A6-4089-8475-09039F2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F7F-1C56-495C-9FC5-C954991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F3F-98F8-4057-BE3E-274D655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A8E-C678-42D1-9994-9BB688E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0D0-01B3-4B7C-8863-1C860574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DC4A-47E0-4C12-A5C4-E290C91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8753-3993-43D9-A1FF-F4E5465D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152F-B36F-41D3-AC0E-C84372B9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3087-EAEB-4664-A3C8-6B232166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0629-A85E-42F8-97D9-7723130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44F6-2BC0-4FA3-B5CD-2D2ED02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A388-6A9F-4DF0-96FF-BD658559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4B4-CC6B-4953-B851-D0E7A01A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0DF9-1007-4164-9909-4C3BF31A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1413-8720-4E9B-9371-22D17F7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CBE0-8652-4CB2-85A1-248CC4F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F747-17AF-4BAD-BAEE-CCF9FB7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B52E-8267-44BC-BE29-EC21110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ACE9-D908-4BBF-8C5E-83F3DBB5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86C2-DA8D-4952-AC83-6F3419EF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A316-9C25-4176-B093-15B47774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38B3-5EB4-4654-87A5-623157E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6478-905F-4880-B16C-7066FE22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885-65CF-47D3-A6E7-8C5BC12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4CF1-95A1-4CCA-BA7D-59EF77F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3B17-4067-4E39-BA35-13EF6E3B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F6C0-BF46-45AE-BC36-A6B728B6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F96C-BE30-461C-A691-DB9D6DE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AC937-5A90-4BDF-BCE0-9AF98495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A167-0BE1-4B5A-A4A7-5FB4E99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07D8-1FF5-418C-91E6-26E1115B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A266-548C-47A3-ACDB-659EFBCA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1CA9-0E79-4B7A-80C5-685C6051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69B1-847E-4142-B8A2-198317A9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F60-5FCF-4790-87E0-4FA5562C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4E32-B04D-4ACF-8B73-AF8805C8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2A22-9369-4AB5-B36D-8106A17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79B0-9915-47B0-A93F-6BFD0D18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4ED8-2783-4B4A-ACFD-343F16C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65F5-574B-4EB3-86B1-5832145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33F6-CBBE-4C02-9AC7-E706068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F9DDB-2B77-4232-979A-B15E1E4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2C02-E2D3-42CB-985B-1AE579F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5558-F605-4DA5-A7DD-0385C8E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A7034-7AE2-4D2A-AE2D-FECB5256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342-D4B5-4590-AC2B-4FB396B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2DA1-BC59-40AD-97C4-87F384FC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ACD9-78CC-459B-946D-7746B8D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7662C-979A-40D0-9BA3-67CFB902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19A0-6851-461D-AFF3-7F7077B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3014-C106-4AA2-AF58-334823A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BC2C-1788-44D6-9A25-B298FA73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22E6-BE0C-41B3-95C6-9A286AE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33C1-20C8-4140-8CA4-E5DDD1E7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8C5A-CA36-4951-AC7B-6E9EB69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AD49-45B9-4EE8-887D-5838FDA6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447-2DC3-462A-8C8E-7F5B049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1831-54A5-4426-82F4-C78EF42A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C19E-AA52-4F55-A2A6-FDC8A9C9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4809-DF8F-495B-BA41-36E408FE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8C52F-B4F4-437D-BB12-88E17007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DD8A-3A86-4ECC-9263-AD2DDAF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B9B9-5310-4699-8DAD-6A59A99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5634-CF70-4D58-BAE1-9683450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4E8E-976D-4329-8A16-4E362B9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F9CDC-C8D9-42EA-8E81-D8F1386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14B2-0131-41A1-949F-40BB4832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A2D-E869-4715-BD67-DB34394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348F-B26B-4F83-95ED-03183D4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3CE1-EE6C-4510-8E39-E12B3CE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E6180-7662-46C1-AFD4-8D1C393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AF4F-7CA0-47DB-A695-6725B291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3BC4-64EA-459C-8176-CC6BAA3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9151-00BB-4E5F-83A7-20CFE1E5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3A597-8C5B-422B-A3A6-566A44B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0A990-BFB4-46B4-8178-9958857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10EF-BFA2-4E6B-9AD5-50FA818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5EDAC-5EE8-4B79-A9E1-AD35680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DD4-BBA3-4824-B998-D440B60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6D751-0E0C-4FD3-818B-4DDAEAF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7825-B18D-41BE-8AAE-6FD7403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7C39-E29B-44BC-A0F0-D34DFDE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1479B-3101-4A3E-AF9B-4BFB23D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44F38-6337-4916-8365-9080911C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A093B-0424-4E1C-B7E8-5180CD4C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BA1D-DC12-4F01-B355-79D0376A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466DB-5B73-4320-AA06-D099C076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D750-08E2-47ED-87DB-55E4390D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163FF-8279-4AB3-9281-1744B083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F9D-9118-4E56-A851-0CAA845A91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276-4532-48AA-8B13-67E4B65E19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D499-FC52-4426-90F8-E0C92D5570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DD3-D53D-4BFD-A835-BAE6C5A56C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679-D6A2-4C59-B486-9F33EFE25C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48A-0806-453A-97E4-33396467A8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51A1-830D-42E1-87E7-44EB27A4AE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F7A-EFF0-441B-BA86-E663DAB88B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E804-525D-4B6E-A433-3B44852B14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307-0260-404B-8060-4F1086BCA1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5B5-A3D9-4F89-8C97-207CC43A94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8398-E86B-4114-9B6C-DE0127531C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0 Často zápasíš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to pochopíš sná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ťa Pán vždy má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on za teba svoj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 svoj on vypl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ch sám odmení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z lásky 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rád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á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oltár.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to zápasí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zdory sklamani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stáť nechávaš opodia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rosti tvoje n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ždy ochotný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svoj je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rád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á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j len za Kris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sa žiť ako 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ý buď za každý jeho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užbe ho odovz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piacim pom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eba daj Pánov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rád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á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54:38Z</dcterms:modified>
  <cp:revision>22</cp:revision>
  <dc:subject/>
  <dc:title>Je veľký náš Pán, on slávy je Kráľ Nech do všetkých strán  spev vrúcnych znie chvál.</dc:title>
</cp:coreProperties>
</file>